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B07-EAF9-479E-9E4C-2F4CEDF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085-3752-400F-9F93-49156C21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B5C-6EA9-49DE-A3AB-1E95004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739-6C0D-4159-A530-64C5CD8F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B04-F050-41AF-A260-7CA3466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1C0-DDFD-4B73-BEE6-2DEAC20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C55-55A0-411A-B01A-576DDB1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1B6-B8D5-4579-9020-19EF8FC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7BC-F8DE-4417-849D-2E753A3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16A-C287-49B3-9DD3-101B9BB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482-1592-4AB5-B7FC-13A87633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59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A5-437A-4955-AA1E-D393F88F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59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1563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172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494-2213-4648-AC32-A2B533BE356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1340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71E3-71CB-4D31-899B-C9B379E2E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9016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Chapter 3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 Review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e the purpose of a review of       related literature in quantitative and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nd primary and secondary sources       for a literature review using indexes, databases, the internet, and library   sta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Qualitative Research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monstrates underling assumptions    critical to the research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monstrates that the researcher is knowledgeable about relate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elps researcher identify gaps in the        body of literature and may provide     rationale for addi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ssists in refining research questions        and guides working hypo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Conducting a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 and make a list of keywords to guide your literature 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sing your keywords, locate primary       and secondary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e the quality of your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 your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alyze and organize your sources using a literature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rite the literature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Keywor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key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ake a list of keywords that will guide your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ult indexes to identify keywo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ider logical keywords and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Keywords can help narrow a literature      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ad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s too broad bu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ading strategi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elementary stud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would be         more narr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There are a    range of sources avail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imary sources are prefer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tain first-h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articles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merican Educational Research Jou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Identify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econdary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econd-hand information—not written           by the person who did the study.  Some           start by reviewing these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Handbooks, encyclopedias, and             reviews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 of Educational      Re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Handbook of Research on    Te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Searching for books on your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Become familiar with the libr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Know what sources of help exist and use      them when you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the library catalo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Boolean opera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ND and NOT narrow searc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OR broadens the 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Use field qualifiers such as date ranges,            authors, or publicatio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038480" y="1981080"/>
            <a:ext cx="3200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24080" y="2286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562720" y="2286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31240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299600" y="990720"/>
            <a:ext cx="29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Technology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50292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hnology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cienc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represented by A, B, and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represents the shared articles with both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hnology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981080"/>
            <a:ext cx="3200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Consulting computer 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 key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elect database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ERIC, Education Index, PsycINFO, Dissertation abstra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pecify your search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Searching the      Internet and 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Very ex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Very cu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y control is lac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o much content it may be         overwhelm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There are many websites for educational researcher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STEEP, NCES, US Department of Edu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Chapter 3: Review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e the sources to determine         their appropriateness as part of the literature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scribe the steps involved in       analyzing, organizing, and reporting           a review of the liter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e meta-analysis and describe         the process for conducting a meta-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Loc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dentifying sources: Membership        in professional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fessional organizations can           assist in your search for current   literatur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.g., NCTM, AERA, APA, ASCD, 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Evalu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valuating your sources:                     A series of questions to ask yourself   to determine if the source is appropriate for your purpo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at was the problem statement of      the stud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s this source related to your research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o was stud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xamine th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Evalua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re was the source pu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fereed journal? Person’s opin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was the research condu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cent, up to d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ow was the study condu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Objective and impartia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s evidence provi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ppropriate data colle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ing you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s are summaries that         describe hypotheses, procedures, conclu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you abstract, you review, summarize, and classify your    re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Abstracting you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Keep these notes organized and        well-guarded and keep a cop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 literature matrix can help your organ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Read the abstract or summary to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determine relev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Skim the entire article and make ment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s of the mai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Write a complete bibliographic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Classify and code the artic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velop codes that are meaningful to yo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5.  Abstract or summarize the sour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the main points of an author’s opin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tate the problem, procedures, main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 any special aspects relevant to your     study or suggestions made by the auth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Steps for Abstracting Sour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6.  Include any thoughts that come t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your mi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Note disagreements, questions you may       have, and anything that is not clear to yo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7.  Indicate statements that are quotes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araphrases to assist you 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voiding plagiar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 students are intimidated to start     writing a literature review largely due to a lack of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 referential support for your    stat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sistently define your te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ake an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t sources within your out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alyze similarities and differences among the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 a meaningful review of previous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Include contradictory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 least connected references first and then move to most relev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clude the review with a brief summary of the literature and its impl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he review of related literature        involves systematic identification,     location, and analysis of documents containing information related to the researc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ay include documents such as articles, dissertations, review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nalyzing, Organizing, and   Reporting the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eta-analysis is a statistical approach for summarizing the effects found in many quantitative studies that have investigated the same or a similar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creases subj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times more efficient than traditional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Meta-analysis uses a measure of relation called an effect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ffect sizes range from small (e.g., .25) to large (e.g., .8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ome meaningful studies are        conducted in areas where little        previous research exists, and some meaningful problems remain in         heavily-researched areas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urposes:  To determine what has       already been done on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s information so you don’t unintentionally duplicate existing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s information to help you         adequately frame your study in what has     been conducted before you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urposes:  To determine what has       already been done on your t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Helps you to identify research strategies       and data collection mechanisms that have     and have not worked in previous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Facilitates your ability to interpret your   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cope:  Determining scope is     challenging for beginning researchers.        It is difficult to determine what to       include and what not to include in the literature revie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Review of Related Litera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Definition, purpose, and 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uggestions for adequate sc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void the temptation to see how         everything you find is re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there is a large existing database,   review only those directly related to your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When there are few existing studies, cast      the net a little larger and include previous   work related in a meaningful way to your problem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Qualitative Research 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ative researchers may not review        the literature in-depth before they begin         a research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Qualitative research topics emerge over  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Reviewing too much literature may       compromise the inductive process of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12:17Z</dcterms:modified>
  <cp:revision>44</cp:revision>
  <dc:subject/>
  <dc:title>AutoCAD Architecture 2008: Part I: Getting Started</dc:title>
</cp:coreProperties>
</file>